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BC61-AC7D-4F33-B186-C3AA383C0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D17E-E316-43CD-B522-AE5C7006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F199-0467-4EE8-A695-DC02D06C1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1B32-16E0-4DEB-AF94-AE96A725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83E8-F581-41AB-8CF5-00278DEB4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97F9-A409-468F-AD83-E278E95C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9B2C-9C69-4F33-9007-99D3F37E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D4D1-35E9-40F1-BDCA-A794AA39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BF23-55B3-4D81-A773-62D76A1E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1977-2146-40CF-AA9E-54DF2CE2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A726-3BF6-43A5-BD34-3FFE4ED5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D845-17FF-4347-8637-86A0A35E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1B2A-7FBD-4C49-8105-380C2B95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3166-54C4-45E1-B372-BE7CF444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5E1C-1BAA-49F5-8649-AED3EB54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72E7-0235-4B27-B10E-5E8FDFC09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6835-9028-4FCD-8C5F-C475F069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9CB8-D5BE-4254-886F-18503780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7060-E0AE-44C2-B643-3ACEA0F4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0302-E6D1-40A1-9C6A-DCBEBC6B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4B19-CAE9-4957-A8C5-ACDBB1C4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B884-F314-4653-B3E2-89D15453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5D5C-D4DC-482B-9A0E-8529CF8A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5EB3-19C3-43C3-8886-3EBEC980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DE0E-B0CE-49C3-82D5-F9A9F0AB76C5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D0CC-03A5-43C8-B1EB-6CD21D560B0B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The Fluent Reader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Tim Rasinski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hapter 8:  Assessmen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hapter 8 describes various assessments that might be used to track fluency development.  In Reading First, we have a well-developed assessment system already in place. Given that, we will not be reading this chapter today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Preview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Here are the main ideas from the chapters we will be reading and discussing today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What do you already know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What are you most interested in learning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c2b"/>
                </a:solidFill>
                <a:latin typeface="Times New Roman"/>
              </a:rPr>
              <a:t>Chapter 1:  Overview of Oral Reading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How can we improve our instruction to promote fluency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Rationale for oral read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How read-alouds benefit studen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Ways to build fluenc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Why should we discontinue round robin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hapter 2: Teacher read aloud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How can we use teacher read-alouds to promote fluency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Benefits of teacher read-aloud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reparing for read-aloud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Responding to read-aloud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hapter 3:  Supported Read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How can we move from modeling to independent reading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Effective forms of supportive read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ips for choosing tex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rms and procedures for supported read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hapter 4: Repeated Read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How can we integrate various forms of repeated reading into our curriculum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Benefits of repeated read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Guidelines for repeated read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pecific repeated reading strategi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hapter 5: Performance Read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How can we effectively design and manage various types of oral reading performanc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tudent-led strategi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ypes of performanc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Resources for teach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hapter 6:  Creating Synergy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How can we integrate oral reading strategies to foster fluency development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Repeated Reading While Listen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ral Recitation Lesson (ORL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luency Development Lesson (FDL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hrased Text Less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c2b"/>
                </a:solidFill>
                <a:latin typeface="Times New Roman"/>
              </a:rPr>
              <a:t>Chapter 7: Oral Reading in and across the Curriculum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How can we integrate these fluency strategies into other parts of the curriculum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aily oral reading routin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trategies for involving and connecting with paren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9:51:45Z</dcterms:created>
  <dc:creator>GADOE</dc:creator>
  <dc:description/>
  <dc:language>en-US</dc:language>
  <cp:lastModifiedBy>Kenneth Page</cp:lastModifiedBy>
  <dcterms:modified xsi:type="dcterms:W3CDTF">2011-12-08T07:42:57Z</dcterms:modified>
  <cp:revision>10</cp:revision>
  <dc:subject/>
  <dc:title>Oral Reading in and Across the Curriculum Chapter 7</dc:title>
</cp:coreProperties>
</file>